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59290-5376-4EDB-BD84-A257E1FDB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32AD6-8DBD-4E71-BE04-CC2C483E2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F8BF5-E1A2-4B4B-982A-B91A58622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FD714-FBA2-4530-8465-2B54E966F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0D521-FE36-4AE6-A403-49C40750E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A7C77-FD78-436D-8034-F6B1D489E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D75B0-6A7B-4DB4-BED5-9B9EB5FC9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0D8CE-ACE0-4DEE-96D1-B51234FC3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172EA-B5D0-4259-AFBE-B5A759F8E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E2B39-4694-4597-90F0-E73BB542B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81260-1236-4ADE-94C6-B4F0EDF6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D1578-92D1-4BE5-B8E3-CDFC45B1C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01B60-071E-4588-A1E2-4048B5E9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C87AE-09C0-48D3-AE74-0116F942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2FBAC-6096-4DC3-AA5A-14F28E758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97793-E186-4D96-963D-7B546B795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D6BDF-013C-43AB-BD6F-C3C5E08E8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5B0CF-1DC0-4433-B1AA-BF9BF68E5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692F9-367F-4675-8AFA-A290047F8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D96A1-AF0A-48BE-9EC0-607718986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BA85E-0130-42DD-8B05-6C9409EF4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790CB-EDA1-4E83-A1EB-8206A2CE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A6F6B-7FED-4730-85CE-47EADCFD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615FD-F91F-4EEA-8FC9-23EA318E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CBA4A-DC52-4BAD-8B18-C5F75938962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88934-FABC-43B6-8F4D-716ED13C9B2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773360"/>
            <a:ext cx="85248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Исследование влияния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 различного количества   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несоложеного сырья на 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качественные показатели пи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449160" y="4370400"/>
            <a:ext cx="53722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"/>
              </a:rPr>
              <a:t>Гернет М.В., д.т.н, профессор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"/>
              </a:rPr>
              <a:t>Кобелев К. В., к.т.н.</a:t>
            </a:r>
            <a:r>
              <a:rPr b="0" i="1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2031840" y="1068480"/>
            <a:ext cx="5419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539640" y="5589720"/>
            <a:ext cx="8317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7d"/>
                </a:solidFill>
                <a:latin typeface="Tahoma"/>
              </a:rPr>
              <a:t>ГНУ ВНИИ пивоваренной, безалкогольной и винодельческой промышленности Россельхозакадемии</a:t>
            </a:r>
            <a:r>
              <a:rPr b="0" lang="en-US" sz="1400" spc="-1" strike="noStrike">
                <a:solidFill>
                  <a:srgbClr val="00007d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7d"/>
                </a:solidFill>
                <a:latin typeface="Tahoma"/>
              </a:rPr>
              <a:t>Сочи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5"/>
          <p:cNvSpPr/>
          <p:nvPr/>
        </p:nvSpPr>
        <p:spPr>
          <a:xfrm>
            <a:off x="-290520" y="63324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2771640" y="5877000"/>
            <a:ext cx="505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22"/>
          <p:cNvGrpSpPr/>
          <p:nvPr/>
        </p:nvGrpSpPr>
        <p:grpSpPr>
          <a:xfrm>
            <a:off x="-579600" y="765000"/>
            <a:ext cx="9723600" cy="5396040"/>
            <a:chOff x="-579600" y="765000"/>
            <a:chExt cx="9723600" cy="5396040"/>
          </a:xfrm>
        </p:grpSpPr>
        <p:graphicFrame>
          <p:nvGraphicFramePr>
            <p:cNvPr id="147" name="Object 4"/>
            <p:cNvGraphicFramePr/>
            <p:nvPr/>
          </p:nvGraphicFramePr>
          <p:xfrm>
            <a:off x="-579600" y="765000"/>
            <a:ext cx="9723600" cy="5396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8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-579600" y="765000"/>
                      <a:ext cx="9723600" cy="539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9" name="Text Box 18"/>
            <p:cNvSpPr/>
            <p:nvPr/>
          </p:nvSpPr>
          <p:spPr>
            <a:xfrm rot="10800000">
              <a:off x="-1440" y="2781360"/>
              <a:ext cx="317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Text Box 20"/>
          <p:cNvSpPr/>
          <p:nvPr/>
        </p:nvSpPr>
        <p:spPr>
          <a:xfrm>
            <a:off x="826920" y="5661000"/>
            <a:ext cx="720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пределяются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альдегид уксусный, 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ацетон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, этилацетат, 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метиловый спирт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2-пропанол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2-бутанол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-пропанол, изобутиловый спирт, 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изоамилацетат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-бутанол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, изоамиловый спирт, 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-гексанол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, этиллакта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1"/>
          <p:cNvSpPr/>
          <p:nvPr/>
        </p:nvSpPr>
        <p:spPr>
          <a:xfrm>
            <a:off x="7585200" y="874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Рис.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5"/>
          <p:cNvSpPr/>
          <p:nvPr/>
        </p:nvSpPr>
        <p:spPr>
          <a:xfrm>
            <a:off x="-42840" y="76212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6877080" y="95400"/>
            <a:ext cx="26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Рис. 4. Альдег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1330200" y="5661000"/>
            <a:ext cx="6913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Ацетальдеги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вкус «подвала» или «подземель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Норма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8-10 мг/д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11"/>
              <p:cNvSpPr txBox="1"/>
              <p:nvPr/>
            </p:nvSpPr>
            <p:spPr>
              <a:xfrm>
                <a:off x="5796000" y="6021360"/>
                <a:ext cx="2746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6" name="Group 16"/>
          <p:cNvGrpSpPr/>
          <p:nvPr/>
        </p:nvGrpSpPr>
        <p:grpSpPr>
          <a:xfrm>
            <a:off x="-468360" y="907920"/>
            <a:ext cx="9229680" cy="4824720"/>
            <a:chOff x="-468360" y="907920"/>
            <a:chExt cx="9229680" cy="4824720"/>
          </a:xfrm>
        </p:grpSpPr>
        <p:graphicFrame>
          <p:nvGraphicFramePr>
            <p:cNvPr id="157" name="Object 4"/>
            <p:cNvGraphicFramePr/>
            <p:nvPr/>
          </p:nvGraphicFramePr>
          <p:xfrm>
            <a:off x="-468360" y="907920"/>
            <a:ext cx="9229680" cy="4824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8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-468360" y="907920"/>
                      <a:ext cx="9229680" cy="482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9" name="Text Box 8"/>
            <p:cNvSpPr/>
            <p:nvPr/>
          </p:nvSpPr>
          <p:spPr>
            <a:xfrm rot="10800000">
              <a:off x="222120" y="2720880"/>
              <a:ext cx="3175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6"/>
            <p:cNvSpPr/>
            <p:nvPr/>
          </p:nvSpPr>
          <p:spPr>
            <a:xfrm>
              <a:off x="927000" y="3295800"/>
              <a:ext cx="7602480" cy="215640"/>
            </a:xfrm>
            <a:prstGeom prst="rect">
              <a:avLst/>
            </a:prstGeom>
            <a:blipFill rotWithShape="0">
              <a:blip r:embed="rId3">
                <a:alphaModFix amt="29000"/>
              </a:blip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-42840" y="76212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6424560" y="281160"/>
            <a:ext cx="1819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6372360" y="77760"/>
            <a:ext cx="27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Рис. 5. Высшие спир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Object 4"/>
          <p:cNvGraphicFramePr/>
          <p:nvPr/>
        </p:nvGraphicFramePr>
        <p:xfrm>
          <a:off x="-468360" y="765000"/>
          <a:ext cx="922968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68360" y="765000"/>
                    <a:ext cx="922968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Rectangle 6"/>
          <p:cNvSpPr/>
          <p:nvPr/>
        </p:nvSpPr>
        <p:spPr>
          <a:xfrm>
            <a:off x="923760" y="3044880"/>
            <a:ext cx="7650360" cy="574560"/>
          </a:xfrm>
          <a:prstGeom prst="rect">
            <a:avLst/>
          </a:prstGeom>
          <a:blipFill rotWithShape="0">
            <a:blip r:embed="rId3">
              <a:alphaModFix amt="29000"/>
            </a:blip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9"/>
          <p:cNvSpPr/>
          <p:nvPr/>
        </p:nvSpPr>
        <p:spPr>
          <a:xfrm rot="10800000">
            <a:off x="249120" y="2781360"/>
            <a:ext cx="317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5"/>
          <p:cNvSpPr/>
          <p:nvPr/>
        </p:nvSpPr>
        <p:spPr>
          <a:xfrm>
            <a:off x="-42840" y="76212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6372360" y="77760"/>
            <a:ext cx="27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Рис. 6. Высшие спир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9"/>
          <p:cNvGrpSpPr/>
          <p:nvPr/>
        </p:nvGrpSpPr>
        <p:grpSpPr>
          <a:xfrm>
            <a:off x="-541440" y="765000"/>
            <a:ext cx="9229680" cy="5334120"/>
            <a:chOff x="-541440" y="765000"/>
            <a:chExt cx="9229680" cy="5334120"/>
          </a:xfrm>
        </p:grpSpPr>
        <p:graphicFrame>
          <p:nvGraphicFramePr>
            <p:cNvPr id="171" name="Object 4"/>
            <p:cNvGraphicFramePr/>
            <p:nvPr/>
          </p:nvGraphicFramePr>
          <p:xfrm>
            <a:off x="-541440" y="765000"/>
            <a:ext cx="9229680" cy="5334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2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-541440" y="765000"/>
                      <a:ext cx="9229680" cy="533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3" name="Rectangle 6"/>
            <p:cNvSpPr/>
            <p:nvPr/>
          </p:nvSpPr>
          <p:spPr>
            <a:xfrm>
              <a:off x="933480" y="3789360"/>
              <a:ext cx="7602480" cy="277920"/>
            </a:xfrm>
            <a:prstGeom prst="rect">
              <a:avLst/>
            </a:prstGeom>
            <a:blipFill rotWithShape="0">
              <a:blip r:embed="rId3">
                <a:alphaModFix amt="29000"/>
              </a:blip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8"/>
            <p:cNvSpPr/>
            <p:nvPr/>
          </p:nvSpPr>
          <p:spPr>
            <a:xfrm rot="10800000">
              <a:off x="177480" y="2781360"/>
              <a:ext cx="3175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5"/>
          <p:cNvSpPr/>
          <p:nvPr/>
        </p:nvSpPr>
        <p:spPr>
          <a:xfrm>
            <a:off x="-42840" y="76212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6300720" y="7776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Рис. 7. Высшие спир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9"/>
          <p:cNvGrpSpPr/>
          <p:nvPr/>
        </p:nvGrpSpPr>
        <p:grpSpPr>
          <a:xfrm>
            <a:off x="-396720" y="765000"/>
            <a:ext cx="9229680" cy="5334120"/>
            <a:chOff x="-396720" y="765000"/>
            <a:chExt cx="9229680" cy="5334120"/>
          </a:xfrm>
        </p:grpSpPr>
        <p:graphicFrame>
          <p:nvGraphicFramePr>
            <p:cNvPr id="178" name="Object 4"/>
            <p:cNvGraphicFramePr/>
            <p:nvPr/>
          </p:nvGraphicFramePr>
          <p:xfrm>
            <a:off x="-396720" y="765000"/>
            <a:ext cx="9229680" cy="5334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9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-396720" y="765000"/>
                      <a:ext cx="9229680" cy="533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0" name="Rectangle 6"/>
            <p:cNvSpPr/>
            <p:nvPr/>
          </p:nvSpPr>
          <p:spPr>
            <a:xfrm>
              <a:off x="1000080" y="3560760"/>
              <a:ext cx="7602480" cy="1087560"/>
            </a:xfrm>
            <a:prstGeom prst="rect">
              <a:avLst/>
            </a:prstGeom>
            <a:blipFill rotWithShape="0">
              <a:blip r:embed="rId3">
                <a:alphaModFix amt="29000"/>
              </a:blip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8"/>
            <p:cNvSpPr/>
            <p:nvPr/>
          </p:nvSpPr>
          <p:spPr>
            <a:xfrm rot="10800000">
              <a:off x="249120" y="2781360"/>
              <a:ext cx="3175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5"/>
          <p:cNvSpPr/>
          <p:nvPr/>
        </p:nvSpPr>
        <p:spPr>
          <a:xfrm>
            <a:off x="-42840" y="76212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6948360" y="77760"/>
            <a:ext cx="282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Рис. 8. Эфи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9"/>
          <p:cNvGrpSpPr/>
          <p:nvPr/>
        </p:nvGrpSpPr>
        <p:grpSpPr>
          <a:xfrm>
            <a:off x="-272880" y="765000"/>
            <a:ext cx="9275760" cy="4824720"/>
            <a:chOff x="-272880" y="765000"/>
            <a:chExt cx="9275760" cy="4824720"/>
          </a:xfrm>
        </p:grpSpPr>
        <p:graphicFrame>
          <p:nvGraphicFramePr>
            <p:cNvPr id="185" name="Object 4"/>
            <p:cNvGraphicFramePr/>
            <p:nvPr/>
          </p:nvGraphicFramePr>
          <p:xfrm>
            <a:off x="-272880" y="765000"/>
            <a:ext cx="9275760" cy="4824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6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-272880" y="765000"/>
                      <a:ext cx="9275760" cy="482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7" name="Line 6"/>
            <p:cNvSpPr/>
            <p:nvPr/>
          </p:nvSpPr>
          <p:spPr>
            <a:xfrm>
              <a:off x="1150920" y="3638880"/>
              <a:ext cx="7669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8"/>
            <p:cNvSpPr/>
            <p:nvPr/>
          </p:nvSpPr>
          <p:spPr>
            <a:xfrm rot="10800000">
              <a:off x="393480" y="2462400"/>
              <a:ext cx="317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16"/>
          <p:cNvGrpSpPr/>
          <p:nvPr/>
        </p:nvGrpSpPr>
        <p:grpSpPr>
          <a:xfrm>
            <a:off x="324000" y="5229360"/>
            <a:ext cx="8135640" cy="1645920"/>
            <a:chOff x="324000" y="5229360"/>
            <a:chExt cx="8135640" cy="1645920"/>
          </a:xfrm>
        </p:grpSpPr>
        <p:sp>
          <p:nvSpPr>
            <p:cNvPr id="190" name="Text Box 10"/>
            <p:cNvSpPr/>
            <p:nvPr/>
          </p:nvSpPr>
          <p:spPr>
            <a:xfrm>
              <a:off x="324000" y="5229360"/>
              <a:ext cx="8135640" cy="164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7d"/>
                  </a:solidFill>
                  <a:latin typeface="Arial"/>
                </a:rPr>
                <a:t>В пиве присутствуют около 60 различных эфиров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Норма</a:t>
              </a:r>
              <a:r>
                <a:rPr b="1" lang="ru-RU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 для низового брожения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– 60 мг/дм, </a:t>
              </a:r>
              <a:r>
                <a:rPr b="1" lang="ru-RU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для верхового брожения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– 80 мг/д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7d"/>
                  </a:solidFill>
                  <a:latin typeface="Arial"/>
                </a:rPr>
                <a:t>из них 6 оказывают большое влияние: </a:t>
              </a:r>
              <a:r>
                <a:rPr b="1" i="1" lang="ru-RU" sz="1600" spc="-1" strike="noStrike">
                  <a:solidFill>
                    <a:srgbClr val="00007d"/>
                  </a:solidFill>
                  <a:latin typeface="Arial"/>
                </a:rPr>
                <a:t>этилацетат, изоамилацетат, изобутилацетат,     -фенилацетат, этилкапроат, этилкаприлат</a:t>
              </a:r>
              <a:r>
                <a:rPr b="1" lang="ru-RU" sz="1600" spc="-1" strike="noStrike">
                  <a:solidFill>
                    <a:srgbClr val="00007d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1" name="Object 14"/>
                <p:cNvSpPr txBox="1"/>
                <p:nvPr/>
              </p:nvSpPr>
              <p:spPr>
                <a:xfrm>
                  <a:off x="2367000" y="6237360"/>
                  <a:ext cx="287280" cy="28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92" name="Object 17"/>
              <p:cNvSpPr txBox="1"/>
              <p:nvPr/>
            </p:nvSpPr>
            <p:spPr>
              <a:xfrm>
                <a:off x="4067280" y="5516640"/>
                <a:ext cx="96840" cy="16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26"/>
              <p:cNvSpPr txBox="1"/>
              <p:nvPr/>
            </p:nvSpPr>
            <p:spPr>
              <a:xfrm>
                <a:off x="7308720" y="5516640"/>
                <a:ext cx="79560" cy="1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5"/>
          <p:cNvSpPr/>
          <p:nvPr/>
        </p:nvSpPr>
        <p:spPr>
          <a:xfrm>
            <a:off x="-42840" y="76212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7327800" y="100080"/>
            <a:ext cx="24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Рис. 9. Эфи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-42840" y="762120"/>
            <a:ext cx="9229680" cy="5333760"/>
            <a:chOff x="-42840" y="762120"/>
            <a:chExt cx="9229680" cy="5333760"/>
          </a:xfrm>
        </p:grpSpPr>
        <p:graphicFrame>
          <p:nvGraphicFramePr>
            <p:cNvPr id="197" name="Object 4"/>
            <p:cNvGraphicFramePr/>
            <p:nvPr/>
          </p:nvGraphicFramePr>
          <p:xfrm>
            <a:off x="-42840" y="762120"/>
            <a:ext cx="9229680" cy="5333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8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-42840" y="762120"/>
                      <a:ext cx="9229680" cy="5333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9" name="Rectangle 9"/>
            <p:cNvSpPr/>
            <p:nvPr/>
          </p:nvSpPr>
          <p:spPr>
            <a:xfrm>
              <a:off x="1258920" y="3789360"/>
              <a:ext cx="7632720" cy="576360"/>
            </a:xfrm>
            <a:prstGeom prst="rect">
              <a:avLst/>
            </a:prstGeom>
            <a:blipFill rotWithShape="0">
              <a:blip r:embed="rId3">
                <a:alphaModFix amt="29000"/>
              </a:blip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20"/>
            <p:cNvSpPr/>
            <p:nvPr/>
          </p:nvSpPr>
          <p:spPr>
            <a:xfrm rot="10800000">
              <a:off x="609480" y="2781360"/>
              <a:ext cx="3175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Определение природы происхождения спирта методом изотопной масс-спектрометрии в образцах 11%-ного п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468360" y="1773360"/>
          <a:ext cx="8229600" cy="4859280"/>
        </p:xfrm>
        <a:graphic>
          <a:graphicData uri="http://schemas.openxmlformats.org/drawingml/2006/table">
            <a:tbl>
              <a:tblPr/>
              <a:tblGrid>
                <a:gridCol w="658800"/>
                <a:gridCol w="3887640"/>
                <a:gridCol w="3683160"/>
              </a:tblGrid>
              <a:tr h="79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ав используемого сырь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ношение стабильных изотопов углерода в                   промилл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421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сол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26,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% сол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 кукурузной круп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23,9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% сол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 ячме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26,4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% сол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 рисовой сеч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26,7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% сол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 патоки № 1 (из кукурузного крахмал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23,4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% сол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 патоки № 2 (из кукурузного крахмал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23,5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03" name="Object 37"/>
              <p:cNvSpPr txBox="1"/>
              <p:nvPr/>
            </p:nvSpPr>
            <p:spPr>
              <a:xfrm>
                <a:off x="6372360" y="2133720"/>
                <a:ext cx="9586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/</m:t>
                        </m:r>
                        <m:r>
                          <m:t xml:space="preserve">C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4" name="Text Box 40"/>
          <p:cNvSpPr/>
          <p:nvPr/>
        </p:nvSpPr>
        <p:spPr>
          <a:xfrm>
            <a:off x="7513560" y="12240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Таблица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179280" y="620640"/>
            <a:ext cx="8445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исследования влияния различного содержания несоложеного ячменя на физико-химические показатели и содержание продуктов брожения в лабораторных условиях были приготовлены образцы пива, в которых солод заменен от 20 до 60 % несоложеным ячмен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чество солода соответствовало требованиям «высокого качества» по ГОСТ 29294-92 «Солод пивоваренный ячменный.ТУ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сбраживания пивного сусла были использованы сухие пивные дрожжи расы 34/70 с нормой внесения 200 мг/л сусла. При замене более 20 % солода на несоложеный ячмень вносили комплекс ферментных препаратов, состоящий из амилолитических, протеолитических и цитолитических фермен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Физико-химические показатели 11%-ного пива с различным содержанием несоложеного ячме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57200" y="1981080"/>
          <a:ext cx="8362800" cy="4768920"/>
        </p:xfrm>
        <a:graphic>
          <a:graphicData uri="http://schemas.openxmlformats.org/drawingml/2006/table">
            <a:tbl>
              <a:tblPr/>
              <a:tblGrid>
                <a:gridCol w="522360"/>
                <a:gridCol w="2824200"/>
                <a:gridCol w="1670040"/>
                <a:gridCol w="1673280"/>
                <a:gridCol w="1672920"/>
              </a:tblGrid>
              <a:tr h="147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отношение солода и несоложеного сыр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ное содержание спирта,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 действительного экстракта,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 общего азота, мг/д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46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сол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0,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% сол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 ячме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8,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% сол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 ячме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9,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% сол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% ячме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0,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 сол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 ячме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,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% сол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% ячме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7,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08" name="Object 103"/>
              <p:cNvSpPr txBox="1"/>
              <p:nvPr/>
            </p:nvSpPr>
            <p:spPr>
              <a:xfrm>
                <a:off x="8244000" y="2421000"/>
                <a:ext cx="126720" cy="1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Text Box 107"/>
          <p:cNvSpPr/>
          <p:nvPr/>
        </p:nvSpPr>
        <p:spPr>
          <a:xfrm>
            <a:off x="7513560" y="12240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Таблица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Система проведения исследов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основание выбора темы НИ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бор промышленных образцов пива, полученных с различным содержанием несоложеного и сахаросодержащего сырь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рганолептическая оценка представленных образц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налитическая оценка образцов пива с использованием современных инструментальных методов анализа, включающих высокоэффективную жидкостную и газовую хроматограф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абораторные исследования изменения качества пива в зависимости от количественного состава используемого несоложеного зернового сырь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во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Суммарная концентрация органических кислот в образцах 11%-ного пива с различным содержанием солода и несоложеного сырь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5435640" y="88920"/>
            <a:ext cx="37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Рис. 10. Органические кисл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6"/>
          <p:cNvGrpSpPr/>
          <p:nvPr/>
        </p:nvGrpSpPr>
        <p:grpSpPr>
          <a:xfrm>
            <a:off x="538200" y="1557360"/>
            <a:ext cx="7640640" cy="4852800"/>
            <a:chOff x="538200" y="1557360"/>
            <a:chExt cx="7640640" cy="4852800"/>
          </a:xfrm>
        </p:grpSpPr>
        <p:graphicFrame>
          <p:nvGraphicFramePr>
            <p:cNvPr id="213" name="Object 3"/>
            <p:cNvGraphicFramePr/>
            <p:nvPr/>
          </p:nvGraphicFramePr>
          <p:xfrm>
            <a:off x="611280" y="1557360"/>
            <a:ext cx="7567560" cy="4852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4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1280" y="1557360"/>
                      <a:ext cx="7567560" cy="485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5" name="Text Box 5"/>
            <p:cNvSpPr/>
            <p:nvPr/>
          </p:nvSpPr>
          <p:spPr>
            <a:xfrm rot="16200000">
              <a:off x="507960" y="3459960"/>
              <a:ext cx="306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7d"/>
                </a:solidFill>
                <a:latin typeface="Arial"/>
              </a:rPr>
              <a:t>Концентрация ацетальдегида в образцах 11%-ного пива с различным содержанием солода и несоложеного сырь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6804000" y="95400"/>
            <a:ext cx="26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Рис. 11. Альдег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10"/>
          <p:cNvGrpSpPr/>
          <p:nvPr/>
        </p:nvGrpSpPr>
        <p:grpSpPr>
          <a:xfrm>
            <a:off x="754200" y="1628640"/>
            <a:ext cx="7334280" cy="4577040"/>
            <a:chOff x="754200" y="1628640"/>
            <a:chExt cx="7334280" cy="4577040"/>
          </a:xfrm>
        </p:grpSpPr>
        <p:graphicFrame>
          <p:nvGraphicFramePr>
            <p:cNvPr id="219" name="Object 3"/>
            <p:cNvGraphicFramePr/>
            <p:nvPr/>
          </p:nvGraphicFramePr>
          <p:xfrm>
            <a:off x="755640" y="1628640"/>
            <a:ext cx="7332840" cy="4577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0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55640" y="1628640"/>
                      <a:ext cx="7332840" cy="457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1" name="Rectangle 4"/>
            <p:cNvSpPr/>
            <p:nvPr/>
          </p:nvSpPr>
          <p:spPr>
            <a:xfrm>
              <a:off x="1681200" y="2568600"/>
              <a:ext cx="6238800" cy="633240"/>
            </a:xfrm>
            <a:prstGeom prst="rect">
              <a:avLst/>
            </a:prstGeom>
            <a:blipFill rotWithShape="0">
              <a:blip r:embed="rId3">
                <a:alphaModFix amt="29000"/>
              </a:blip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8"/>
            <p:cNvSpPr/>
            <p:nvPr/>
          </p:nvSpPr>
          <p:spPr>
            <a:xfrm rot="16200000">
              <a:off x="723960" y="3388680"/>
              <a:ext cx="306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7d"/>
                </a:solidFill>
                <a:latin typeface="Arial"/>
              </a:rPr>
              <a:t>Концентрация изобутанола в образцах 11%-ного пива с различным содержанием солода и несоложеного сырь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6156360" y="77760"/>
            <a:ext cx="29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Рис. 12. Высшие спир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Group 8"/>
          <p:cNvGrpSpPr/>
          <p:nvPr/>
        </p:nvGrpSpPr>
        <p:grpSpPr>
          <a:xfrm>
            <a:off x="754200" y="1627200"/>
            <a:ext cx="7343640" cy="4579920"/>
            <a:chOff x="754200" y="1627200"/>
            <a:chExt cx="7343640" cy="4579920"/>
          </a:xfrm>
        </p:grpSpPr>
        <p:graphicFrame>
          <p:nvGraphicFramePr>
            <p:cNvPr id="226" name="Object 3"/>
            <p:cNvGraphicFramePr/>
            <p:nvPr/>
          </p:nvGraphicFramePr>
          <p:xfrm>
            <a:off x="765000" y="1627200"/>
            <a:ext cx="7332840" cy="4579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7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5000" y="1627200"/>
                      <a:ext cx="7332840" cy="457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8" name="Rectangle 4"/>
            <p:cNvSpPr/>
            <p:nvPr/>
          </p:nvSpPr>
          <p:spPr>
            <a:xfrm>
              <a:off x="1679400" y="2565360"/>
              <a:ext cx="6243840" cy="822240"/>
            </a:xfrm>
            <a:prstGeom prst="rect">
              <a:avLst/>
            </a:prstGeom>
            <a:blipFill rotWithShape="0">
              <a:blip r:embed="rId3">
                <a:alphaModFix amt="29000"/>
              </a:blip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7"/>
            <p:cNvSpPr/>
            <p:nvPr/>
          </p:nvSpPr>
          <p:spPr>
            <a:xfrm rot="16200000">
              <a:off x="723960" y="3315600"/>
              <a:ext cx="306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7d"/>
                </a:solidFill>
                <a:latin typeface="Arial"/>
              </a:rPr>
              <a:t>Концентрация изоамилола в образцах 11%-ного пива с различным содержанием солода и несоложеного сырь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5940360" y="77760"/>
            <a:ext cx="32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Рис. 13. Высшие спир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7"/>
          <p:cNvGrpSpPr/>
          <p:nvPr/>
        </p:nvGrpSpPr>
        <p:grpSpPr>
          <a:xfrm>
            <a:off x="754200" y="1628640"/>
            <a:ext cx="7334280" cy="4577040"/>
            <a:chOff x="754200" y="1628640"/>
            <a:chExt cx="7334280" cy="4577040"/>
          </a:xfrm>
        </p:grpSpPr>
        <p:graphicFrame>
          <p:nvGraphicFramePr>
            <p:cNvPr id="233" name="Object 3"/>
            <p:cNvGraphicFramePr/>
            <p:nvPr/>
          </p:nvGraphicFramePr>
          <p:xfrm>
            <a:off x="755640" y="1628640"/>
            <a:ext cx="7332840" cy="4577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4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55640" y="1628640"/>
                      <a:ext cx="7332840" cy="457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5" name="Rectangle 4"/>
            <p:cNvSpPr/>
            <p:nvPr/>
          </p:nvSpPr>
          <p:spPr>
            <a:xfrm>
              <a:off x="1676520" y="2489040"/>
              <a:ext cx="6243480" cy="662040"/>
            </a:xfrm>
            <a:prstGeom prst="rect">
              <a:avLst/>
            </a:prstGeom>
            <a:blipFill rotWithShape="0">
              <a:blip r:embed="rId3">
                <a:alphaModFix amt="29000"/>
              </a:blip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6"/>
            <p:cNvSpPr/>
            <p:nvPr/>
          </p:nvSpPr>
          <p:spPr>
            <a:xfrm rot="16200000">
              <a:off x="723960" y="3388680"/>
              <a:ext cx="306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7d"/>
                </a:solidFill>
                <a:latin typeface="Arial"/>
              </a:rPr>
              <a:t>Концентрация 1-пропанола в образцах 11%-ного пива с различным содержанием солода и несоложеного сырь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6156360" y="77760"/>
            <a:ext cx="29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Рис. 14. Высшие спир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7"/>
          <p:cNvGrpSpPr/>
          <p:nvPr/>
        </p:nvGrpSpPr>
        <p:grpSpPr>
          <a:xfrm>
            <a:off x="754200" y="1628640"/>
            <a:ext cx="7334280" cy="4577040"/>
            <a:chOff x="754200" y="1628640"/>
            <a:chExt cx="7334280" cy="4577040"/>
          </a:xfrm>
        </p:grpSpPr>
        <p:graphicFrame>
          <p:nvGraphicFramePr>
            <p:cNvPr id="240" name="Object 3"/>
            <p:cNvGraphicFramePr/>
            <p:nvPr/>
          </p:nvGraphicFramePr>
          <p:xfrm>
            <a:off x="755640" y="1628640"/>
            <a:ext cx="7332840" cy="4577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1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55640" y="1628640"/>
                      <a:ext cx="7332840" cy="457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2" name="Rectangle 4"/>
            <p:cNvSpPr/>
            <p:nvPr/>
          </p:nvSpPr>
          <p:spPr>
            <a:xfrm>
              <a:off x="1674720" y="2687760"/>
              <a:ext cx="6243840" cy="2127240"/>
            </a:xfrm>
            <a:prstGeom prst="rect">
              <a:avLst/>
            </a:prstGeom>
            <a:blipFill rotWithShape="0">
              <a:blip r:embed="rId3">
                <a:alphaModFix amt="29000"/>
              </a:blip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6"/>
            <p:cNvSpPr/>
            <p:nvPr/>
          </p:nvSpPr>
          <p:spPr>
            <a:xfrm rot="16200000">
              <a:off x="723960" y="3388680"/>
              <a:ext cx="306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7d"/>
                </a:solidFill>
                <a:latin typeface="Arial"/>
              </a:rPr>
              <a:t>Концентрация этилацетата в образцах 11%-ного пива с различным содержанием солода и несоложеного сырь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7093080" y="77760"/>
            <a:ext cx="268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Рис. 15. Эфи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8"/>
          <p:cNvGrpSpPr/>
          <p:nvPr/>
        </p:nvGrpSpPr>
        <p:grpSpPr>
          <a:xfrm>
            <a:off x="754200" y="1627200"/>
            <a:ext cx="7343640" cy="4579920"/>
            <a:chOff x="754200" y="1627200"/>
            <a:chExt cx="7343640" cy="4579920"/>
          </a:xfrm>
        </p:grpSpPr>
        <p:graphicFrame>
          <p:nvGraphicFramePr>
            <p:cNvPr id="247" name="Object 3"/>
            <p:cNvGraphicFramePr/>
            <p:nvPr/>
          </p:nvGraphicFramePr>
          <p:xfrm>
            <a:off x="765000" y="1627200"/>
            <a:ext cx="7332840" cy="4579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8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5000" y="1627200"/>
                      <a:ext cx="7332840" cy="457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9" name="Line 5"/>
            <p:cNvSpPr/>
            <p:nvPr/>
          </p:nvSpPr>
          <p:spPr>
            <a:xfrm>
              <a:off x="1692360" y="2852640"/>
              <a:ext cx="6192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7"/>
            <p:cNvSpPr/>
            <p:nvPr/>
          </p:nvSpPr>
          <p:spPr>
            <a:xfrm rot="16200000">
              <a:off x="723960" y="3388680"/>
              <a:ext cx="306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7d"/>
                </a:solidFill>
                <a:latin typeface="Arial"/>
              </a:rPr>
              <a:t>Концентрация изоамилацетата в образцах 11%-ного пива с различным содержанием солода и несоложеного сырь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6948360" y="77760"/>
            <a:ext cx="282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Рис. 16. Эфи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8"/>
          <p:cNvGrpSpPr/>
          <p:nvPr/>
        </p:nvGrpSpPr>
        <p:grpSpPr>
          <a:xfrm>
            <a:off x="754200" y="1628640"/>
            <a:ext cx="7334280" cy="4577040"/>
            <a:chOff x="754200" y="1628640"/>
            <a:chExt cx="7334280" cy="4577040"/>
          </a:xfrm>
        </p:grpSpPr>
        <p:graphicFrame>
          <p:nvGraphicFramePr>
            <p:cNvPr id="254" name="Object 3"/>
            <p:cNvGraphicFramePr/>
            <p:nvPr/>
          </p:nvGraphicFramePr>
          <p:xfrm>
            <a:off x="755640" y="1628640"/>
            <a:ext cx="7332840" cy="4577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5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55640" y="1628640"/>
                      <a:ext cx="7332840" cy="457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6" name="Rectangle 4"/>
            <p:cNvSpPr/>
            <p:nvPr/>
          </p:nvSpPr>
          <p:spPr>
            <a:xfrm>
              <a:off x="1728720" y="2133720"/>
              <a:ext cx="6189840" cy="1604880"/>
            </a:xfrm>
            <a:prstGeom prst="rect">
              <a:avLst/>
            </a:prstGeom>
            <a:blipFill rotWithShape="0">
              <a:blip r:embed="rId3">
                <a:alphaModFix amt="29000"/>
              </a:blip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6"/>
            <p:cNvSpPr/>
            <p:nvPr/>
          </p:nvSpPr>
          <p:spPr>
            <a:xfrm rot="16200000">
              <a:off x="723960" y="3388680"/>
              <a:ext cx="306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Выв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468360" y="863640"/>
            <a:ext cx="83516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а основе анализа международных систем контроля качественных показателей пива установлено, что в настоящее время инструментальные методы определения доли несоложеного сырья, использованного при производстве пива, отсутству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 целью идентификации происхождения этанола разработана методика на основе изотопной масс-спектрометрии, позволяющая  достоверно определить природу происхождения спирта в готовом пиве, полученном с использованием кукурузного крахмалосодержащего сыр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ыявить закономерности образования продуктов брожения в образцах готового пива можно при наличии информации о следующих параметрах: экстрактивность начального сусла, используемое зерновое сырье и продукты его переработки, технология производства пива, раса дрожжей, применяемое оборудование и т.д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оказано, что вещества, формирующие органолептический профиль готового пива, такие как, альдегиды, высшие спирты, эфиры, вицинальные дикетоны, органические кислоты можно идентифицировать с помощью жидкостной и газовой хроматограф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5"/>
          <p:cNvSpPr/>
          <p:nvPr/>
        </p:nvSpPr>
        <p:spPr>
          <a:xfrm>
            <a:off x="468360" y="1125360"/>
            <a:ext cx="842472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обеспечения идентификации летучих и нелетучих компонентов пива разработаны и утверждены в установленном порядке инструкции контроля «массовой концентрации органических кислот методом высокоэффективной жидкостной хроматографии», а также «массовой концентрации летучих компонентов методом газовой хроматограф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производстве пива с заменой от 5 до 20 % экстракта пивного сусла мальтозной патокой не установлено превышения допустимых параметров по концентрации ацетальдегида, изобутанола, изоамилола, 1-пропанола, изоамилацетата, этиллактата и органических кислот, таких как щавелевая, винная, муравьиная, яблочная, уксусная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Для установления предельных значений содержания продуктов брожения в готовом пиве необходимо продолжить мониторинг различных типов отечественного и зарубежного пива для создания массива данных с учетом всех значимых параметров технологического проце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4000" y="3068640"/>
            <a:ext cx="779292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6699"/>
                </a:solidFill>
                <a:latin typeface="Arial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Анализ использования зернового и сахаросодержащего сырья при производстве пива в различных стран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59400" y="257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59400" y="257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59400" y="1841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24444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50920" y="981000"/>
          <a:ext cx="8781840" cy="5130720"/>
        </p:xfrm>
        <a:graphic>
          <a:graphicData uri="http://schemas.openxmlformats.org/drawingml/2006/table">
            <a:tbl>
              <a:tblPr/>
              <a:tblGrid>
                <a:gridCol w="1441440"/>
                <a:gridCol w="1409760"/>
                <a:gridCol w="1482480"/>
                <a:gridCol w="1482840"/>
                <a:gridCol w="1482840"/>
                <a:gridCol w="148248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сырь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а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азил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гент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икобрит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93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граничения по несоложёным материала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менее 2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менее 5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менее 5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6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усо-ароматические добав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разрешено Такое пиво определяется как лагер с ароматом добав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ешено в соответствии со списком допустимых ароматических добавок. В названии продукта должно быть указание на содержание добав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ешено.  В названии продукта должно быть указание на содержание добав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ешено. В названии продукта должно быть указание на содержание добав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ешено. В названии продукта должно быть указание на содержание добав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71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харосодержащие компонент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разрешено Такое пиво определяется как лагер с добавлением сахаросодержащих компонент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разрешено. Продукт должен называться солодовый напито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ешено добавление только натуральных сахаросодержащих компонент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ешено добавление только натуральных сахаросодержащих компонент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ешено в соответствии с установленным перечнем. В наименовании продукта должно быть указание на содержание сахаросодержащих компонент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24444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79280" y="692280"/>
          <a:ext cx="8642520" cy="4516200"/>
        </p:xfrm>
        <a:graphic>
          <a:graphicData uri="http://schemas.openxmlformats.org/drawingml/2006/table">
            <a:tbl>
              <a:tblPr/>
              <a:tblGrid>
                <a:gridCol w="1559160"/>
                <a:gridCol w="1417680"/>
                <a:gridCol w="1414440"/>
                <a:gridCol w="1417320"/>
                <a:gridCol w="1416240"/>
                <a:gridCol w="141768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сырь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ь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рм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ра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а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664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граничения по несоложеным материала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менее 6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 сол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менее 5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менее 8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2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усо-ароматические добав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ешено В названии продукта должно быть указание на содержание добав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разреше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ешено. В названии продукта должно быть указание на содержание добав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разреше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ешено.В названии продукта должно быть указание на содержание добав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7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харосодержащие компонент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ешено в соответствии с установленным перечнем. В  наименовании продукта должно быть указание на содержание сахаросодержащих компонент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разрешено в пиве низового брожения. Разрешено в пиве верхового брожения.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еше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более 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еше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3628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В наших исследованиях мы проанализировали 29 образцов пива, полученных с различным содержанием несоложеного и сахаросодержащего сырья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Были использованы следующие методики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зико-химические показатели – по ГОСТ Р 51174-2009 Пиво. Общие технические условия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ание общего азота в пиве – по Кьельдал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ание органических кислот методом Высокоэффективной жидкостной хроматографии (ВЭЖХ) на хроматографе «Стайер» со спектрофотометрическим детектором (колонка С1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50*4,6 мм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тучие вещества определяли на газовом хроматографе «Хроматэк Кристалл 5000.1» с пламенно-ионизационным детектором. Капиллярная колонка с неподвижной фазой (НФ)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роду происхождения спирта определяли  с помощью изотопной масс-спектрометрии по методике «Измерение отношения изотопов спиртов методом  изотопной масс-спектрометрии»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4"/>
              <p:cNvSpPr txBox="1"/>
              <p:nvPr/>
            </p:nvSpPr>
            <p:spPr>
              <a:xfrm>
                <a:off x="8147160" y="5118120"/>
                <a:ext cx="64296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С</m:t>
                        </m:r>
                      </m:num>
                      <m:den/>
                    </m:f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468360" y="1052640"/>
          <a:ext cx="8207280" cy="5707080"/>
        </p:xfrm>
        <a:graphic>
          <a:graphicData uri="http://schemas.openxmlformats.org/drawingml/2006/table">
            <a:tbl>
              <a:tblPr/>
              <a:tblGrid>
                <a:gridCol w="482400"/>
                <a:gridCol w="2340000"/>
                <a:gridCol w="1346400"/>
                <a:gridCol w="1346040"/>
                <a:gridCol w="1346400"/>
                <a:gridCol w="1346040"/>
              </a:tblGrid>
              <a:tr h="2462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яемый показате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9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но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ирта,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начального   экстракта,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ительн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тракта,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общего азота, мг/д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27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лод -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1,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лод -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9,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лод -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3,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2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лод - 64% Ячмень-21% Патока -1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9,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лод - 63% Ячмень - 22% Патока -1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7,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лод - 65% Ячмень-20% Патока -1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1,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9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лод - 57% Ячмень-28% Патока -1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1,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лод - 59% Ячмень - 26% Патока -1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8,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2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лод - 57% Ячмень - 28% Патока -1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9,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лод-8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ка (мальт.) - 2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2,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лод - 8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ка (декстр.) - 2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9,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лод - 6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ка (мальт.) -3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5,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лод - 6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ка (мальт.) -3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7,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лод - 7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ка (декстр.) - 2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0,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3" name="Rectangle 621"/>
          <p:cNvSpPr/>
          <p:nvPr/>
        </p:nvSpPr>
        <p:spPr>
          <a:xfrm>
            <a:off x="826920" y="57240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Физико-химические показатели пива различных производ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644"/>
              <p:cNvSpPr txBox="1"/>
              <p:nvPr/>
            </p:nvSpPr>
            <p:spPr>
              <a:xfrm>
                <a:off x="1523880" y="1397160"/>
                <a:ext cx="6096240" cy="40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5" name="Text Box 652"/>
          <p:cNvSpPr/>
          <p:nvPr/>
        </p:nvSpPr>
        <p:spPr>
          <a:xfrm>
            <a:off x="8459640" y="1700280"/>
            <a:ext cx="236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57"/>
          <p:cNvSpPr/>
          <p:nvPr/>
        </p:nvSpPr>
        <p:spPr>
          <a:xfrm>
            <a:off x="7513560" y="12240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Таблица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468360" y="471600"/>
          <a:ext cx="8207280" cy="6235560"/>
        </p:xfrm>
        <a:graphic>
          <a:graphicData uri="http://schemas.openxmlformats.org/drawingml/2006/table">
            <a:tbl>
              <a:tblPr/>
              <a:tblGrid>
                <a:gridCol w="482400"/>
                <a:gridCol w="2340000"/>
                <a:gridCol w="1346400"/>
                <a:gridCol w="1346040"/>
                <a:gridCol w="1346400"/>
                <a:gridCol w="1346040"/>
              </a:tblGrid>
              <a:tr h="2462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яемый показате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но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ирта,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начального экстракта,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ительн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тракта,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общего азота, мг/д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лод - 7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ка (мальт.) -15%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с -1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6,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лод-7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ка (мальт.) -10%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с-2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0,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лод - 7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ка (мальт.) -1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с-2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5,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лод - 7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ка (мальт.) -15%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чмень -1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3,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9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39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лод-53%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39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чмень - 28% Мальтозн. сироп -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3,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39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лод-73%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39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чмень - 2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6,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39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лод - 46%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39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чмень-21% Мальтозн. сироп - 3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1,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39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лод-90%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39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с -1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2,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39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лод-80%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39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с-2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1,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лод - 70%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с-3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6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лод - 80%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ка (мальт.) - 2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2,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лод -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9,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чмень-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1,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лод - 75%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ка (мальт.) -2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8,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лод -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2,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8" name="Text Box 694"/>
          <p:cNvSpPr/>
          <p:nvPr/>
        </p:nvSpPr>
        <p:spPr>
          <a:xfrm>
            <a:off x="8459640" y="981000"/>
            <a:ext cx="236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95"/>
          <p:cNvSpPr/>
          <p:nvPr/>
        </p:nvSpPr>
        <p:spPr>
          <a:xfrm>
            <a:off x="6443640" y="122400"/>
            <a:ext cx="251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Продолжение таблицы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-281160" y="63324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5364000" y="68400"/>
            <a:ext cx="37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Рис. 1. Вицинальные дикето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9"/>
          <p:cNvGrpSpPr/>
          <p:nvPr/>
        </p:nvGrpSpPr>
        <p:grpSpPr>
          <a:xfrm>
            <a:off x="-561960" y="620640"/>
            <a:ext cx="9705960" cy="5591160"/>
            <a:chOff x="-561960" y="620640"/>
            <a:chExt cx="9705960" cy="5591160"/>
          </a:xfrm>
        </p:grpSpPr>
        <p:graphicFrame>
          <p:nvGraphicFramePr>
            <p:cNvPr id="133" name="Object 3"/>
            <p:cNvGraphicFramePr/>
            <p:nvPr/>
          </p:nvGraphicFramePr>
          <p:xfrm>
            <a:off x="-561960" y="620640"/>
            <a:ext cx="9705960" cy="5591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4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-561960" y="620640"/>
                      <a:ext cx="9705960" cy="5591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5" name="Line 5"/>
            <p:cNvSpPr/>
            <p:nvPr/>
          </p:nvSpPr>
          <p:spPr>
            <a:xfrm flipV="1">
              <a:off x="912960" y="4220640"/>
              <a:ext cx="7980120" cy="190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8"/>
            <p:cNvSpPr/>
            <p:nvPr/>
          </p:nvSpPr>
          <p:spPr>
            <a:xfrm rot="10800000">
              <a:off x="222120" y="2720880"/>
              <a:ext cx="3175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-290520" y="63324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1403280" y="587700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Определяются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щавелевая, винная, яблочная, молочная, лимонная, янтарная органические кисло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7607160" y="7920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Рис.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9"/>
          <p:cNvGrpSpPr/>
          <p:nvPr/>
        </p:nvGrpSpPr>
        <p:grpSpPr>
          <a:xfrm>
            <a:off x="-581040" y="857160"/>
            <a:ext cx="9725040" cy="5591160"/>
            <a:chOff x="-581040" y="857160"/>
            <a:chExt cx="9725040" cy="5591160"/>
          </a:xfrm>
        </p:grpSpPr>
        <p:graphicFrame>
          <p:nvGraphicFramePr>
            <p:cNvPr id="141" name="Object 3"/>
            <p:cNvGraphicFramePr/>
            <p:nvPr/>
          </p:nvGraphicFramePr>
          <p:xfrm>
            <a:off x="-581040" y="857160"/>
            <a:ext cx="9725040" cy="5591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2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-581040" y="857160"/>
                      <a:ext cx="9725040" cy="5591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3" name="Text Box 8"/>
            <p:cNvSpPr/>
            <p:nvPr/>
          </p:nvSpPr>
          <p:spPr>
            <a:xfrm rot="10800000">
              <a:off x="-1800" y="3089160"/>
              <a:ext cx="31752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1T14:32:51Z</dcterms:created>
  <dc:creator>1</dc:creator>
  <dc:description/>
  <dc:language>en-US</dc:language>
  <cp:lastModifiedBy>Ksenia</cp:lastModifiedBy>
  <dcterms:modified xsi:type="dcterms:W3CDTF">2012-05-23T10:38:29Z</dcterms:modified>
  <cp:revision>96</cp:revision>
  <dc:subject/>
  <dc:title>Национальный напиток «Квас» - основные требования к его производству и идентификации</dc:title>
</cp:coreProperties>
</file>